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media/image6.jpeg" ContentType="image/jpeg"/>
  <Override PartName="/ppt/media/image5.jpeg" ContentType="image/jpeg"/>
  <Override PartName="/ppt/media/image8.jpeg" ContentType="image/jpeg"/>
  <Override PartName="/ppt/media/image4.png" ContentType="image/png"/>
  <Override PartName="/ppt/media/image13.png" ContentType="image/png"/>
  <Override PartName="/ppt/media/image12.png" ContentType="image/png"/>
  <Override PartName="/ppt/media/image11.wmf" ContentType="image/x-wmf"/>
  <Override PartName="/ppt/media/image10.wmf" ContentType="image/x-wmf"/>
  <Override PartName="/ppt/media/camera.wav" ContentType="audio/x-wav"/>
  <Override PartName="/ppt/media/image7.jpeg" ContentType="image/jpeg"/>
  <Override PartName="/ppt/media/image9.png" ContentType="image/png"/>
  <Override PartName="/ppt/media/projctor.wav" ContentType="audio/x-wav"/>
  <Override PartName="/ppt/media/image1.png" ContentType="image/png"/>
  <Override PartName="/ppt/media/indian%20music.wav" ContentType="audio/x-wav"/>
  <Override PartName="/ppt/media/image3.jpeg" ContentType="image/jpeg"/>
  <Override PartName="/ppt/media/drumroll.wav" ContentType="audio/x-wav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52B1E-65D3-4B27-81E2-F5F9AE87116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ople of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ins Cul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d on Great Pl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 Buffa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igious Ceremon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ortance of Fami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of Tep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 Path Cus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lief in Spiri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ins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d on Great Pl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Buffa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gious Ceremo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ce of Fam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Tep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 Path Cus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ief in Spiri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bes of the Plains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ko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yen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ou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anc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bes of the Plains Ind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ko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yen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ou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an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fe on the Pl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pe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uffalo Hu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ying Buffa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ing the Village with the Buffa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wow D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e on the Pl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pee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ffalo H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ing Buffa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ing the Village with the Buffa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wow D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ortance of the Buffa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des used for clothing and tepe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sh meat eaten as stews and saus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t dried in the sun for future 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ns used for spoons, cups, and to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nes used for too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stines and stomachs used for water stor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ils used for whips and sewing threa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ce of the Buffa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des used for clothing and tep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sh meat eaten as stews and sau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t dried in the sun for future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ns used for spoons, cups, and to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es used for t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stines and stomachs used for water stor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ils used for whips and sewing threa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igious Belie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ins Indians believe in many g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ds show themselves in the form of moon, stars, animals or strong th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y a man receives power from the gods is through a 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ian that sees many visions is the Medicine 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wow is the celebration or prayer to the Great Spiri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gious Belie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ins Indians believe in many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ds show themselves in the form of moon, stars, animals or strong th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y a man receives power from the gods is through a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an that sees many visions is the Medicine 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wow is the celebration or prayer to the Great Spir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urn to Home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urn to Home P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A270-FEE6-4F37-978F-93C9CE486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4FFA-F0C9-4D78-A015-89B12C305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50D1-BBE9-4D06-8F87-6679C886D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2CC2-7B7A-4F02-9943-56AA0B6CD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391F-5A71-403C-BA2C-54A508749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36A1-C643-4142-BFD9-71D598D4E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E612-8292-4A58-B45E-DBBEADF33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48EE-0445-481D-8B16-9D9E1052F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4C83-BAFB-4511-88F0-C26F5CE33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43EF-4080-4EC9-940B-64724E1B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5A11-2C4B-48D3-A543-68EC3BD3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912D-6ACE-4141-AF4D-27EACA61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C9221-0338-4127-BC74-F8BB4E440F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indian%20music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drumroll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audio" Target="../media/drumroll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hyperlink" Target="http://teachers.k12.sd.us/JL016" TargetMode="External"/><Relationship Id="rId4" Type="http://schemas.openxmlformats.org/officeDocument/2006/relationships/audio" Target="../media/indian%20music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6600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Gothic"/>
              </a:rPr>
              <a:t>Native American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People of th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Pla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indian music.wav" descr=""/>
          <p:cNvPicPr/>
          <p:nvPr/>
        </p:nvPicPr>
        <p:blipFill>
          <a:blip r:embed="rId1"/>
          <a:stretch/>
        </p:blipFill>
        <p:spPr>
          <a:xfrm>
            <a:off x="45720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  <p:sndAc>
      <p:stSnd>
        <p:snd r:embed="rId2" name="indian%20music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3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lains Cul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ved on Great Pl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llow Buffa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ligious Ceremon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ortance of 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of Tep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r Path Cus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lief in Spirits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6" descr="F:\USERS\LARSON\Pictures\Lacota Sioux.jpg"/>
          <p:cNvPicPr/>
          <p:nvPr/>
        </p:nvPicPr>
        <p:blipFill>
          <a:blip r:embed="rId1"/>
          <a:stretch/>
        </p:blipFill>
        <p:spPr>
          <a:xfrm>
            <a:off x="4648320" y="2473200"/>
            <a:ext cx="3809880" cy="313056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eorgia"/>
              </a:rPr>
              <a:t>Tribes of the Plains India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Dako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heyen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iou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manc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9" descr="F:\USERS\LARSON\Pictures\compic1[1].jpg"/>
          <p:cNvPicPr/>
          <p:nvPr/>
        </p:nvPicPr>
        <p:blipFill>
          <a:blip r:embed="rId1"/>
          <a:stretch/>
        </p:blipFill>
        <p:spPr>
          <a:xfrm>
            <a:off x="995400" y="1981080"/>
            <a:ext cx="3190680" cy="411480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685800" y="60948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Life on the Pla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F:\USERS\LARSON\Pictures\tipi[1].gif"/>
          <p:cNvPicPr/>
          <p:nvPr/>
        </p:nvPicPr>
        <p:blipFill>
          <a:blip r:embed="rId1"/>
          <a:stretch/>
        </p:blipFill>
        <p:spPr>
          <a:xfrm>
            <a:off x="457200" y="609480"/>
            <a:ext cx="1406520" cy="1965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F:\USERS\LARSON\Pictures\buffalohlunt[1].jpg"/>
          <p:cNvPicPr/>
          <p:nvPr/>
        </p:nvPicPr>
        <p:blipFill>
          <a:blip r:embed="rId2"/>
          <a:stretch/>
        </p:blipFill>
        <p:spPr>
          <a:xfrm>
            <a:off x="3505320" y="1447920"/>
            <a:ext cx="2209680" cy="1854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F:\USERS\LARSON\Pictures\travois[1].jpg"/>
          <p:cNvPicPr/>
          <p:nvPr/>
        </p:nvPicPr>
        <p:blipFill>
          <a:blip r:embed="rId3"/>
          <a:stretch/>
        </p:blipFill>
        <p:spPr>
          <a:xfrm>
            <a:off x="457200" y="3886200"/>
            <a:ext cx="3962520" cy="2162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F:\USERS\LARSON\Pictures\Meat[1].jpg"/>
          <p:cNvPicPr/>
          <p:nvPr/>
        </p:nvPicPr>
        <p:blipFill>
          <a:blip r:embed="rId4"/>
          <a:stretch/>
        </p:blipFill>
        <p:spPr>
          <a:xfrm>
            <a:off x="7010280" y="762120"/>
            <a:ext cx="1616040" cy="2133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F:\USERS\LARSON\Pictures\ghostpic5[1].jpg"/>
          <p:cNvPicPr/>
          <p:nvPr/>
        </p:nvPicPr>
        <p:blipFill>
          <a:blip r:embed="rId5"/>
          <a:stretch/>
        </p:blipFill>
        <p:spPr>
          <a:xfrm>
            <a:off x="5638680" y="3962520"/>
            <a:ext cx="2971800" cy="21477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9"/>
          <p:cNvSpPr/>
          <p:nvPr/>
        </p:nvSpPr>
        <p:spPr>
          <a:xfrm>
            <a:off x="212760" y="2708280"/>
            <a:ext cx="19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pee 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3352680" y="33526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uffalo H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6705720" y="29718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ying Buffa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228600" y="61722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ing the Village with the Buffa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5"/>
          <p:cNvSpPr/>
          <p:nvPr/>
        </p:nvSpPr>
        <p:spPr>
          <a:xfrm>
            <a:off x="5029200" y="6172200"/>
            <a:ext cx="34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wow D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Importance of the Buffa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des used for clothing and tep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sh meat eaten as stews and sau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t dried in the sun for future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rns used for spoons, cups, and to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nes used for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stines and stomachs used for water sto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ils used for whips and sewing threa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4" descr="A:\Buffalo 06.wmf"/>
          <p:cNvPicPr/>
          <p:nvPr/>
        </p:nvPicPr>
        <p:blipFill>
          <a:blip r:embed="rId2"/>
          <a:stretch/>
        </p:blipFill>
        <p:spPr>
          <a:xfrm>
            <a:off x="304920" y="457200"/>
            <a:ext cx="1573200" cy="118908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8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8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8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8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Monotype Corsiva"/>
              </a:rPr>
              <a:t>Religious Belief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lains Indians believe in many g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ds show themselves in the form of moon, stars, animals or strong th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ay a man receives power from the gods is through a v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dian that sees many visions is the Medicine 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wwow is the celebration or prayer to the Great Spiri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4" descr="A:\Native American - Dancer 3.tif"/>
          <p:cNvPicPr/>
          <p:nvPr/>
        </p:nvPicPr>
        <p:blipFill>
          <a:blip r:embed="rId2"/>
          <a:stretch/>
        </p:blipFill>
        <p:spPr>
          <a:xfrm>
            <a:off x="838080" y="380880"/>
            <a:ext cx="1176480" cy="160020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4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9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4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9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4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F:\USERS\LARSON\Pictures\TP village.gif"/>
          <p:cNvPicPr/>
          <p:nvPr/>
        </p:nvPicPr>
        <p:blipFill>
          <a:blip r:embed="rId1"/>
          <a:stretch/>
        </p:blipFill>
        <p:spPr>
          <a:xfrm>
            <a:off x="609480" y="533520"/>
            <a:ext cx="7932960" cy="5627520"/>
          </a:xfrm>
          <a:prstGeom prst="rect">
            <a:avLst/>
          </a:prstGeom>
          <a:ln w="0">
            <a:noFill/>
          </a:ln>
        </p:spPr>
      </p:pic>
      <p:pic>
        <p:nvPicPr>
          <p:cNvPr id="81" name="indian music.wav" descr=""/>
          <p:cNvPicPr/>
          <p:nvPr/>
        </p:nvPicPr>
        <p:blipFill>
          <a:blip r:embed="rId2"/>
          <a:stretch/>
        </p:blipFill>
        <p:spPr>
          <a:xfrm>
            <a:off x="609480" y="6095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6"/>
          <p:cNvSpPr/>
          <p:nvPr/>
        </p:nvSpPr>
        <p:spPr>
          <a:xfrm>
            <a:off x="914400" y="457200"/>
            <a:ext cx="50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cript MT Bold"/>
              </a:rPr>
              <a:t>The En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1812600" y="5985000"/>
            <a:ext cx="28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Return to Home P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indian%20mus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5" dur="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4T21:43:35Z</dcterms:created>
  <dc:creator>LIN224</dc:creator>
  <dc:description/>
  <dc:language>en-US</dc:language>
  <cp:lastModifiedBy>Legion</cp:lastModifiedBy>
  <dcterms:modified xsi:type="dcterms:W3CDTF">2017-07-05T12:17:37Z</dcterms:modified>
  <cp:revision>13</cp:revision>
  <dc:subject/>
  <dc:title>Native Americans</dc:title>
</cp:coreProperties>
</file>